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42.jpeg" ContentType="image/jpeg"/>
  <Override PartName="/ppt/media/image5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D70E7-C8A1-4A7F-8243-D5062651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322C-DE86-4BC2-A31D-A1CD91CD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4342-2FBF-44FC-9B38-2C8CFE71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37DC-803B-4876-86A2-7A0B4EFB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2549A-98E0-437C-951E-3A13F59D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67CAB-D318-431B-8B62-D0650DAD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20127-C9B8-4EEA-BC2A-58B2895F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2D273-8003-4921-BAE1-0B8087C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CB734-2C22-45DB-A555-A5815346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66EA8-DE98-474C-90C4-9D9DFD04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6989F-B1D4-4C6D-B578-C14D81A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80EC-489B-4DAE-A53A-40C42B0E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D5970-1EE6-4E03-AED1-B747B803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EE504-93F6-4CAE-B95A-ABEFA267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871CD-AE94-45D0-A2FD-2315434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F5088-CFC6-4F4F-BF22-8536217D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9E869-A7D1-4CA1-BC59-4992B767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2F60A-5FAE-4640-8D1A-3A37A400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D59F-8FF0-4886-9FC2-48A7831E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B300D-DFC4-4268-ACE5-8D27502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4B82-B77E-482E-A48B-0430A319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3DD8-FA4D-4F06-B086-D9166D59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830C-9224-4602-8067-BD4F048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15A9-3618-4B0B-BBB0-A17941D1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5212-E992-4AE4-9473-0D4103DBF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6555-ABC6-4DA9-B91E-B3AA587D7606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aplus.info/produce/scomber.html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edaplus.info/produce/tunny.html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edaplus.info/produce/hake.html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edaplus.info/produce/alaska_pollack.html" TargetMode="External"/><Relationship Id="rId8" Type="http://schemas.openxmlformats.org/officeDocument/2006/relationships/image" Target="../media/image51.jpeg"/><Relationship Id="rId9" Type="http://schemas.openxmlformats.org/officeDocument/2006/relationships/hyperlink" Target="http://edaplus.info/produce/codfish.html" TargetMode="External"/><Relationship Id="rId10" Type="http://schemas.openxmlformats.org/officeDocument/2006/relationships/image" Target="../media/image52.jpeg"/><Relationship Id="rId11" Type="http://schemas.openxmlformats.org/officeDocument/2006/relationships/hyperlink" Target="http://edaplus.info/produce/haddock.html" TargetMode="External"/><Relationship Id="rId12" Type="http://schemas.openxmlformats.org/officeDocument/2006/relationships/image" Target="../media/image53.jpeg"/><Relationship Id="rId13" Type="http://schemas.openxmlformats.org/officeDocument/2006/relationships/hyperlink" Target="http://edaplus.info/produce/capelin.html" TargetMode="External"/><Relationship Id="rId14" Type="http://schemas.openxmlformats.org/officeDocument/2006/relationships/image" Target="../media/image54.jpeg"/><Relationship Id="rId15" Type="http://schemas.openxmlformats.org/officeDocument/2006/relationships/hyperlink" Target="http://edaplus.info/produce/humpback_salmon.html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edaplus.info/produce/ruff.html" TargetMode="External"/><Relationship Id="rId18" Type="http://schemas.openxmlformats.org/officeDocument/2006/relationships/image" Target="../media/image55.jpeg"/><Relationship Id="rId19" Type="http://schemas.openxmlformats.org/officeDocument/2006/relationships/image" Target="../media/image30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aplus.info/produce/dried_apricot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daplus.info/produce/french_plum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daplus.info/produce/raisins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pine_nut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edaplus.info/produce/potato.html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edaplus.info/produce/peanut.html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edaplus.info/produce/laminaria.html" TargetMode="External"/><Relationship Id="rId22" Type="http://schemas.openxmlformats.org/officeDocument/2006/relationships/image" Target="../media/image15.jpeg"/><Relationship Id="rId23" Type="http://schemas.openxmlformats.org/officeDocument/2006/relationships/hyperlink" Target="http://edaplus.info/produce/mustard.html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edaplus.info/produce/lentil.html" TargetMode="External"/><Relationship Id="rId26" Type="http://schemas.openxmlformats.org/officeDocument/2006/relationships/image" Target="../media/image17.jpeg"/><Relationship Id="rId27" Type="http://schemas.openxmlformats.org/officeDocument/2006/relationships/hyperlink" Target="http://edaplus.info/produce/cashew.html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edaplus.info/produce/walnut.html" TargetMode="External"/><Relationship Id="rId30" Type="http://schemas.openxmlformats.org/officeDocument/2006/relationships/image" Target="../media/image19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plus.info/produce/turkey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daplus.info/produce/beef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daplus.info/produce/pork.html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daplus.info/produce/mutton.html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edaplus.info/produce/liver.html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edaplus.info/produce/rabbit.html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edaplus.info/produce/pike.html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edaplus.info/produce/grouper.html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edaplus.info/produce/sardine.html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edaplus.info/produce/humpback_salmon.html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edaplus.info/produce/pea.html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edaplus.info/produce/flounder.html" TargetMode="External"/><Relationship Id="rId24" Type="http://schemas.openxmlformats.org/officeDocument/2006/relationships/image" Target="../media/image30.jpeg"/><Relationship Id="rId25" Type="http://schemas.openxmlformats.org/officeDocument/2006/relationships/hyperlink" Target="http://edaplus.info/produce/lancet_fish.html" TargetMode="External"/><Relationship Id="rId26" Type="http://schemas.openxmlformats.org/officeDocument/2006/relationships/image" Target="../media/image31.jpeg"/><Relationship Id="rId27" Type="http://schemas.openxmlformats.org/officeDocument/2006/relationships/hyperlink" Target="http://edaplus.info/produce/chicken.html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edaplus.info/produce/egg.html" TargetMode="External"/><Relationship Id="rId30" Type="http://schemas.openxmlformats.org/officeDocument/2006/relationships/image" Target="../media/image33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aplus.info/produce/liver.html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edaplus.info/produce/pine_nut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daplus.info/produce/camembert.html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daplus.info/produce/peanut.html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edaplus.info/produce/beef.html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edaplus.info/produce/bean.html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edaplus.info/produce/pea.html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edaplus.info/produce/mutton.html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edaplus.info/produce/pork.html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buckwheat.html" TargetMode="External"/><Relationship Id="rId22" Type="http://schemas.openxmlformats.org/officeDocument/2006/relationships/image" Target="../media/image36.jpeg"/><Relationship Id="rId23" Type="http://schemas.openxmlformats.org/officeDocument/2006/relationships/hyperlink" Target="http://edaplus.info/produce/barley.html" TargetMode="External"/><Relationship Id="rId24" Type="http://schemas.openxmlformats.org/officeDocument/2006/relationships/image" Target="../media/image37.jpeg"/><Relationship Id="rId25" Type="http://schemas.openxmlformats.org/officeDocument/2006/relationships/hyperlink" Target="http://edaplus.info/produce/oatmeal.html" TargetMode="External"/><Relationship Id="rId26" Type="http://schemas.openxmlformats.org/officeDocument/2006/relationships/image" Target="../media/image38.jpe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aplus.info/produce/pistachio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edaplus.info/produce/liver.html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edaplus.info/produce/spinach.html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daplus.info/produce/lentil.html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buckwheat.html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edaplus.info/produce/pigeon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edaplus.info/produce/barley.html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edaplus.info/produce/oatmeal.html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peanut.html" TargetMode="External"/><Relationship Id="rId22" Type="http://schemas.openxmlformats.org/officeDocument/2006/relationships/image" Target="../media/image14.jpeg"/><Relationship Id="rId23" Type="http://schemas.openxmlformats.org/officeDocument/2006/relationships/hyperlink" Target="http://edaplus.info/produce/cornel.html" TargetMode="External"/><Relationship Id="rId24" Type="http://schemas.openxmlformats.org/officeDocument/2006/relationships/image" Target="../media/image42.jpeg"/><Relationship Id="rId25" Type="http://schemas.openxmlformats.org/officeDocument/2006/relationships/hyperlink" Target="http://edaplus.info/produce/cashew.html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edaplus.info/produce/maize.html" TargetMode="External"/><Relationship Id="rId28" Type="http://schemas.openxmlformats.org/officeDocument/2006/relationships/image" Target="../media/image43.jpeg"/><Relationship Id="rId29" Type="http://schemas.openxmlformats.org/officeDocument/2006/relationships/hyperlink" Target="http://edaplus.info/produce/pine_nut.html" TargetMode="External"/><Relationship Id="rId30" Type="http://schemas.openxmlformats.org/officeDocument/2006/relationships/image" Target="../media/image12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daplus.info/produce/wheat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edaplus.info/produce/barley.html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edaplus.info/produce/bean_sprouts.html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nut.html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noodles.html" TargetMode="External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hyperlink" Target="http://edaplus.info/directory-fish.html" TargetMode="External"/><Relationship Id="rId19" Type="http://schemas.openxmlformats.org/officeDocument/2006/relationships/image" Target="../media/image47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«Волшебный»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витамин,</a:t>
            </a:r>
            <a:endParaRPr b="0" lang="en-US" sz="6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1500120"/>
            <a:ext cx="87156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ие  элементы  в  живой  клетк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одзаголовок 14"/>
          <p:cNvSpPr/>
          <p:nvPr/>
        </p:nvSpPr>
        <p:spPr>
          <a:xfrm>
            <a:off x="214200" y="435780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истематизировать знания о биоэлемент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«волшебный» витами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Фтор</a:t>
            </a:r>
            <a:endParaRPr b="0" lang="en-US" sz="60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Отвечает за созревание и отвердевание зубной эмали, помогает бороться с кариесом и пародонтоз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Участвует в росте скелета, заживлении костной ткани при переломах, предупреждает остеопороз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тимулирует кроветворе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нижает накопление радионуклида стронция в костях, уменьшает тяжесть лучевого поражения от этого радионукли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1,5 – 2,0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6" name="Рисунок 13" descr="Скумбр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4429080"/>
            <a:ext cx="1571760" cy="5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4" descr="Тунец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Хек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407196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6" descr="Минтай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15040" y="4357800"/>
            <a:ext cx="1300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7" descr="Треска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43880" y="4429080"/>
            <a:ext cx="1342800" cy="5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8" descr="Пикша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28800" y="5143680"/>
            <a:ext cx="1285920" cy="642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Мойв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09720" y="5072040"/>
            <a:ext cx="114804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Горбуша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3404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" descr="Ерш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29200" y="5072040"/>
            <a:ext cx="12146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Камбалана белом фоне"/>
          <p:cNvPicPr/>
          <p:nvPr/>
        </p:nvPicPr>
        <p:blipFill>
          <a:blip r:embed="rId19"/>
          <a:stretch/>
        </p:blipFill>
        <p:spPr>
          <a:xfrm>
            <a:off x="142920" y="5867280"/>
            <a:ext cx="1233360" cy="7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3" descr="Карасьна белом фоне"/>
          <p:cNvPicPr/>
          <p:nvPr/>
        </p:nvPicPr>
        <p:blipFill>
          <a:blip r:embed="rId20"/>
          <a:stretch/>
        </p:blipFill>
        <p:spPr>
          <a:xfrm>
            <a:off x="1500120" y="5862600"/>
            <a:ext cx="1324080" cy="781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4" descr="Кетана белом фоне"/>
          <p:cNvPicPr/>
          <p:nvPr/>
        </p:nvPicPr>
        <p:blipFill>
          <a:blip r:embed="rId21"/>
          <a:stretch/>
        </p:blipFill>
        <p:spPr>
          <a:xfrm>
            <a:off x="2928960" y="5924520"/>
            <a:ext cx="1376280" cy="719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5" descr="Кефальна белом фоне"/>
          <p:cNvPicPr/>
          <p:nvPr/>
        </p:nvPicPr>
        <p:blipFill>
          <a:blip r:embed="rId22"/>
          <a:stretch/>
        </p:blipFill>
        <p:spPr>
          <a:xfrm>
            <a:off x="4500720" y="5929200"/>
            <a:ext cx="148104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Корюшкана белом фоне"/>
          <p:cNvPicPr/>
          <p:nvPr/>
        </p:nvPicPr>
        <p:blipFill>
          <a:blip r:embed="rId23"/>
          <a:stretch/>
        </p:blipFill>
        <p:spPr>
          <a:xfrm>
            <a:off x="6143760" y="5929200"/>
            <a:ext cx="136656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7" descr="Устрицана белом фоне"/>
          <p:cNvPicPr/>
          <p:nvPr/>
        </p:nvPicPr>
        <p:blipFill>
          <a:blip r:embed="rId24"/>
          <a:stretch/>
        </p:blipFill>
        <p:spPr>
          <a:xfrm>
            <a:off x="7677000" y="5286240"/>
            <a:ext cx="132408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5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24640" cy="58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aramond"/>
              </a:rPr>
              <a:t>Рефлексия</a:t>
            </a:r>
            <a:endParaRPr b="0" lang="en-US" sz="3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Продолжи фразы: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ЧИСТАЯ И ЗДОРОВАЯ КОЖА, если…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УТ ШЕЛКОВИСТЫЕ ВОЛОС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Ы БУДЕТЕ ПОРАЖАТЬ ВСЕХ СВОЕЙ ОСВЕДОМЛЕННОСТЬЮ И ИЗУМИТЕЛЬНОЙ ПАМЯТЬЮ, если 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ШЕ СЕРДЦЕ БУДЕТ ВЕЧНЫМ ДВИГАТЕЛЕМ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НОРМАЛЬНОЕ КРОВЯНОЕ ДАВЛ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ПРЕКРАСНОЕ САМОЧУВСТВ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ЖИЗНЕРАДОСТНОЕ НАСТРО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ЗДОРОВОЕ И СВЕЖЕЕ ДЫХА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СБАЛАНСИРОВАННЫЙ ОБМЕН ВЕЩЕСТВ, если …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М  НЕ  ГРОЗИТ  ХУДОБА  И  ЛИШНИЕ  КИЛОГРАММ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6" descr="витамины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 rot="20251200">
            <a:off x="-1366560" y="2611080"/>
            <a:ext cx="1185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7" name="Picture 17" descr="колбы"/>
          <p:cNvPicPr/>
          <p:nvPr/>
        </p:nvPicPr>
        <p:blipFill>
          <a:blip r:embed="rId2"/>
          <a:stretch/>
        </p:blipFill>
        <p:spPr>
          <a:xfrm>
            <a:off x="8096400" y="0"/>
            <a:ext cx="1047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4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5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75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8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59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60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7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летка 4"/>
          <p:cNvPicPr/>
          <p:nvPr/>
        </p:nvPicPr>
        <p:blipFill>
          <a:blip r:embed="rId1"/>
          <a:stretch/>
        </p:blipFill>
        <p:spPr>
          <a:xfrm>
            <a:off x="2357280" y="2928960"/>
            <a:ext cx="4861080" cy="338148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357120" y="2071800"/>
            <a:ext cx="350064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а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5357880" y="2071800"/>
            <a:ext cx="350028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и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1281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По содержанию в живых клетках 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7128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98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Скругленный прямоугольник 13"/>
          <p:cNvSpPr/>
          <p:nvPr/>
        </p:nvSpPr>
        <p:spPr>
          <a:xfrm>
            <a:off x="1071720" y="107172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Химические 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214200" y="48578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С – 20,7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214200" y="550080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Н – 9,9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Скругленный прямоугольник 17"/>
          <p:cNvSpPr/>
          <p:nvPr/>
        </p:nvSpPr>
        <p:spPr>
          <a:xfrm>
            <a:off x="214200" y="62150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5,0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214200" y="41432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О – 62,4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Скругленный прямоугольник 21"/>
          <p:cNvSpPr/>
          <p:nvPr/>
        </p:nvSpPr>
        <p:spPr>
          <a:xfrm>
            <a:off x="257184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Скругленный прямоугольник 22"/>
          <p:cNvSpPr/>
          <p:nvPr/>
        </p:nvSpPr>
        <p:spPr>
          <a:xfrm>
            <a:off x="59292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Скругленный прямоугольник 23"/>
          <p:cNvSpPr/>
          <p:nvPr/>
        </p:nvSpPr>
        <p:spPr>
          <a:xfrm>
            <a:off x="771516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771516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850104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Скругленный прямоугольник 26"/>
          <p:cNvSpPr/>
          <p:nvPr/>
        </p:nvSpPr>
        <p:spPr>
          <a:xfrm>
            <a:off x="850104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Скругленный прямоугольник 27"/>
          <p:cNvSpPr/>
          <p:nvPr/>
        </p:nvSpPr>
        <p:spPr>
          <a:xfrm>
            <a:off x="68580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Скругленный прямоугольник 28"/>
          <p:cNvSpPr/>
          <p:nvPr/>
        </p:nvSpPr>
        <p:spPr>
          <a:xfrm>
            <a:off x="6858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Скругленный прямоугольник 29"/>
          <p:cNvSpPr/>
          <p:nvPr/>
        </p:nvSpPr>
        <p:spPr>
          <a:xfrm>
            <a:off x="59292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Скругленный прямоугольник 30"/>
          <p:cNvSpPr/>
          <p:nvPr/>
        </p:nvSpPr>
        <p:spPr>
          <a:xfrm>
            <a:off x="8001000" y="55818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32"/>
          <p:cNvSpPr/>
          <p:nvPr/>
        </p:nvSpPr>
        <p:spPr>
          <a:xfrm>
            <a:off x="2786040" y="56437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Скругленный прямоугольник 33"/>
          <p:cNvSpPr/>
          <p:nvPr/>
        </p:nvSpPr>
        <p:spPr>
          <a:xfrm>
            <a:off x="428616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Скругленный прямоугольник 34"/>
          <p:cNvSpPr/>
          <p:nvPr/>
        </p:nvSpPr>
        <p:spPr>
          <a:xfrm>
            <a:off x="3429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Скругленный прямоугольник 35"/>
          <p:cNvSpPr/>
          <p:nvPr/>
        </p:nvSpPr>
        <p:spPr>
          <a:xfrm>
            <a:off x="2786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Скругленный прямоугольник 36"/>
          <p:cNvSpPr/>
          <p:nvPr/>
        </p:nvSpPr>
        <p:spPr>
          <a:xfrm>
            <a:off x="3929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Скругленный прямоугольник 37"/>
          <p:cNvSpPr/>
          <p:nvPr/>
        </p:nvSpPr>
        <p:spPr>
          <a:xfrm>
            <a:off x="3929040" y="5653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Скругленный прямоугольник 38"/>
          <p:cNvSpPr/>
          <p:nvPr/>
        </p:nvSpPr>
        <p:spPr>
          <a:xfrm>
            <a:off x="6572160" y="5572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Скругленный прямоугольник 39"/>
          <p:cNvSpPr/>
          <p:nvPr/>
        </p:nvSpPr>
        <p:spPr>
          <a:xfrm>
            <a:off x="250020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1,9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Скругленный прямоугольник 40"/>
          <p:cNvSpPr/>
          <p:nvPr/>
        </p:nvSpPr>
        <p:spPr>
          <a:xfrm>
            <a:off x="621504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0,1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Стрелка вниз 31"/>
          <p:cNvSpPr/>
          <p:nvPr/>
        </p:nvSpPr>
        <p:spPr>
          <a:xfrm>
            <a:off x="25718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Стрелка вниз 41"/>
          <p:cNvSpPr/>
          <p:nvPr/>
        </p:nvSpPr>
        <p:spPr>
          <a:xfrm>
            <a:off x="62150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Стрелка вниз 42"/>
          <p:cNvSpPr/>
          <p:nvPr/>
        </p:nvSpPr>
        <p:spPr>
          <a:xfrm>
            <a:off x="92880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Стрелка вниз 43"/>
          <p:cNvSpPr/>
          <p:nvPr/>
        </p:nvSpPr>
        <p:spPr>
          <a:xfrm>
            <a:off x="307188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Стрелка вниз 44"/>
          <p:cNvSpPr/>
          <p:nvPr/>
        </p:nvSpPr>
        <p:spPr>
          <a:xfrm>
            <a:off x="728676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pic>
        <p:nvPicPr>
          <p:cNvPr id="130" name="Picture 2" descr="C:\Users\SuperGrandMa\Desktop\ВОЛШЕБНЫЙ ВИТАМИН\ХИМИЧЕСКИЕ 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4200" y="1790640"/>
            <a:ext cx="8701200" cy="473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ff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ding2675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3840" y="266400"/>
            <a:ext cx="89298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План характеристики элемента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14200" y="1790640"/>
            <a:ext cx="8929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в организ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чная норма потреб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дефицита и избытка элемента на здоровье челове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длежит ли добавлению в «волшебный» витамин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Калий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еобходим для нормального функционирования всех мышц, особенно сердечн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страняет отеки, способствует выводу воды из организм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гулирует артериальное давление и сердечный рит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еспечивает прохождение импульса по нервной систем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3 – 5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7" name="Рисунок 22" descr="Кураг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Чернослив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4124160"/>
            <a:ext cx="1014480" cy="10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" descr="Изюм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143240"/>
            <a:ext cx="905040" cy="1000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5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85920" y="414324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Горох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143240"/>
            <a:ext cx="1352520" cy="10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0100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280" y="5357880"/>
            <a:ext cx="100044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Кедровые орехи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1" descr="Картофель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72080" y="5357880"/>
            <a:ext cx="98604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2" descr="Арахис на белом фоне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0" y="535788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3" descr="Морская капуст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714760" y="4148280"/>
            <a:ext cx="10429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5" descr="Горчиц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42908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6" descr="Чечевиц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14300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7" descr="Кешью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15080" y="5357880"/>
            <a:ext cx="1119240" cy="85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8" descr="Грецкий орех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929720" y="535788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ера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обходима для здоровья кожи, ногтей и вол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казывает противоаллергическое действ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грает роль в свертывании крови, очищает кров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ствует работе мозга, стимулирует клеточное дыха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 г (поступает с белками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Рисунок 18" descr="Индейк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3857760"/>
            <a:ext cx="928800" cy="1004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9" descr="Говядина 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4071960"/>
            <a:ext cx="11718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0" descr="Свинина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71840" y="3929040"/>
            <a:ext cx="10382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6" descr="Баранина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000680"/>
            <a:ext cx="115272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4" descr="Печень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4000680"/>
            <a:ext cx="115704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9" descr="Кролик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400068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0" descr="Щук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43880" y="4214880"/>
            <a:ext cx="135720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1" descr="Морской окунь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2920" y="500076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2" descr="Сард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4280" y="5857920"/>
            <a:ext cx="1138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3" descr="Горбуш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1472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4" descr="Горох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7720" y="585792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Камбал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00720" y="5000760"/>
            <a:ext cx="1214280" cy="776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6" descr="Зубат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29160" y="5929200"/>
            <a:ext cx="1443240" cy="4287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7" descr="Курица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86720" y="5000760"/>
            <a:ext cx="1000080" cy="747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8" descr="Яйцо куринное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5572080"/>
            <a:ext cx="9288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8101080" y="1989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Цинк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иоксидант. Препятствует образованию агрессивных активных форм кислоро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антивирусным и антитоксическим свойствами, участвует в борьбе с инфекционными болезнями и рак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 в состав 200 ферментов и гормона инсулина, регулирующего уровень сахар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нк способствует росту и развитию человека, необходим для полового созревания и продолжения потомств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возможность ощущать вкус, зап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чная потребность: 10 – 15 мг. (но не более 25 мг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2" name="Рисунок 16" descr="Печень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5000760"/>
            <a:ext cx="115704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7" descr="Кедровые орехи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0480" y="5000760"/>
            <a:ext cx="77148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8" descr="Камамбер и бри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4880" y="5000760"/>
            <a:ext cx="1123920" cy="71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9" descr="Арахис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0800" y="5000760"/>
            <a:ext cx="88560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0" descr="Говядина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2160" y="5000760"/>
            <a:ext cx="1171800" cy="723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Фасо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67800" y="470520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Горох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2920" y="5929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3" descr="Баранина на белом фоне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57200" y="58579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4" descr="Свин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76600" y="5786280"/>
            <a:ext cx="103824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5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929040" y="58579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6" descr="Гречк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8624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Ячневая круп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76920" y="578628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8" descr="Овсян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767720" y="5929200"/>
            <a:ext cx="1162080" cy="7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7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48060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Железо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Участвует в образовании гемоглобин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образовании иммунных защитных клеток, требуется для «работы» витаминов группы 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синтезе гормонов щитовидной желез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ходит в состав 70 различных фермент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0 – 18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Рисунок 18" descr="Фисташки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920" y="4071960"/>
            <a:ext cx="127620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9" descr="Печень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1492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0" descr="Шпинат 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3578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Чечевица 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86040" y="42148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Горох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21488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9" descr="Гречка 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86240" y="4214880"/>
            <a:ext cx="1214640" cy="7952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0" descr="Голубь 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67640" y="4214880"/>
            <a:ext cx="1019160" cy="819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1" descr="Ячневая крупа 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8001000" y="4214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Овсянка 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2920" y="55720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3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500120" y="56437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Арахис 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28960" y="5643720"/>
            <a:ext cx="928800" cy="828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5" descr="Кизил 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19480" y="5643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6" descr="Кешью 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310360" y="5643720"/>
            <a:ext cx="1118880" cy="785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7" descr="Кукуруза 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572160" y="557208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8" descr="Кедровые орехи 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786800" y="5572080"/>
            <a:ext cx="1214280" cy="87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Бром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1. Регулирует процессы торможения и возбуждения ЦН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Входит в состав желудочного сока, оказывает влияние на его кислотн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ктивизирует половую функцию, регулирует количество сперматозои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0,5 – 1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400" spc="-1" strike="noStrike">
                <a:solidFill>
                  <a:srgbClr val="4d0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 также полезно дышать морским воздухом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4" name="Рисунок 3" descr="Пшениц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378612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Ячневая крупа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560" y="428616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Бобына белом фоне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90840" y="3786120"/>
            <a:ext cx="1209960" cy="743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421488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Арахис на белом фоне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3714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72280" y="4143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0120" y="4929120"/>
            <a:ext cx="1114560" cy="943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Макаронные изделия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14640" y="4929120"/>
            <a:ext cx="10285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Сметанана белом фоне"/>
          <p:cNvPicPr/>
          <p:nvPr/>
        </p:nvPicPr>
        <p:blipFill>
          <a:blip r:embed="rId17"/>
          <a:stretch/>
        </p:blipFill>
        <p:spPr>
          <a:xfrm>
            <a:off x="4357800" y="4929120"/>
            <a:ext cx="1038240" cy="966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Сельдьна белом фоне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00920" y="5214960"/>
            <a:ext cx="1685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0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4:22Z</dcterms:created>
  <dc:creator>user</dc:creator>
  <dc:description/>
  <dc:language>en-US</dc:language>
  <cp:lastModifiedBy>SuperGrandMa</cp:lastModifiedBy>
  <dcterms:modified xsi:type="dcterms:W3CDTF">2018-05-11T06:21:50Z</dcterms:modified>
  <cp:revision>171</cp:revision>
  <dc:subject/>
  <dc:title>Слайд 1</dc:title>
</cp:coreProperties>
</file>